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E1F1-867A-4410-80E0-A67A541EA8C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464E-DB47-415F-83BB-B934F380E44F}" type="slidenum">
              <a:rPr b="0" lang="pl-P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D086-7D91-4465-96C3-E7C44D617DB7}" type="slidenum">
              <a:rPr b="0" lang="pl-P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8FBB-C273-4309-A875-90AE1B9B97CD}" type="slidenum">
              <a:rPr b="0" lang="pl-P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F478-C6A1-410C-B5DD-CC0DDEC8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8CA-DF22-4911-8F7C-0042B861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3BFC-151F-4854-A02B-E796C97C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B580-E1E9-4C2A-A6BE-E38AEC35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691A-C261-4D30-9202-9D6C3968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9C0F-6BC9-4090-843A-F419ADC1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F381-F801-4661-9DF6-204A988D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EA90-484A-498F-9EE5-3B3E8DCA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43B3-1067-479A-A8C0-719FD71B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D066-DC8F-41BB-8786-570BF777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93C5-7289-4F70-A084-D488B349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664B-0FD5-4028-B32E-0EE25A22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1BE7-B7A6-4622-B41E-30E97339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0E2C-E32C-4B95-BBAF-9FF77165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126E-D64F-4A11-83F2-ECEDF594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D18F-B828-4649-84D8-1F24AF43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418C-5318-4E9C-9EA3-5710ADB8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FA515-925C-4ED7-B3BF-7C2032EC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08289-B37C-43DC-A63C-A23C2922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93293-C877-4CB0-95CD-08BA022D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5CAE5-BF0B-47D7-8107-A370F1DB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B6F3C-C469-49A0-870C-A6D06C47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B5DF-4C52-4C0A-8231-C16530E1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9A1DE-F01B-4FC2-99FE-86BAE4C1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FC880-E450-4B71-80A5-A5948B52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D6BC0-C0F6-4AC0-91E1-65E4B939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AB709-DF9D-4C4D-A31D-9863F985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92AA8-CE1E-4241-810D-2212F06A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44043-D338-42BE-8867-F5C0F4BE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E630A-F6A3-4459-9CAD-DE2A4811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67957-9321-48D6-8BC5-7FD05C25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AD32B-94F6-4701-BE54-FCD3F485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FFAFC-CFE6-4C1B-A90E-9FCDD20E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AD4-4951-4A61-AB0C-C408BC20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EC268-888E-493D-987F-7B9B0B5A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32ACD-D9C7-4E90-A3E4-96B45FB6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A4807-92A1-4873-9E08-B694D9B3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D3B9F-EDBC-4D2E-B163-9CD7A34E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D3EB7-08E1-4D58-8575-126EA77F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09910-B345-4E27-B518-9917CA1E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B522E-5770-4850-B7E1-5EEA2012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2C987-F94A-4445-A2F0-D795D667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4C1AA-0D52-47B0-8FBF-4729D389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54133-49FE-4266-9DB3-C147433F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1123-94BB-4060-A6E6-B5F554DA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B6177-8CA7-4012-B650-F53BF31A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23D82-C92E-42DB-BA80-BC6BA076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4AB02-1308-491A-9A35-1380BCB7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9C29D-82F8-4EEF-922A-E72DA32E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D2FDC-54B3-438F-8E33-AE449B20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C1EBD-3B4F-4B32-9120-8937B3C6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29CA3-6250-42C4-9C64-D5481C30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4C155-9449-499B-92B9-09A41583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2CAED-2F93-4EF4-A9D6-5E51B1FC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528BE-74AD-41AA-B125-177CD52C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0C93-7324-41FB-B067-F3D53F06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DA7A0-475F-4BFE-A7E0-D640944E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D46D4-59AD-491A-872B-FF1F8202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52E71-CB96-4602-9BFE-74608293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5E3A7-454C-457D-9F4C-6B1ABEA7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58603-6318-4943-AB73-72EA1746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32E98-B942-4FCF-B6A6-A3EE6044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1074D-BB97-4290-A10C-BCFBDE58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584BC-521A-45AC-8467-F2B1C6E0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D9435-1C59-4788-A9A3-DCDE8E6D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6B862-E7C7-4FBE-9070-361F6B7A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8DD-FD07-4051-BFB4-790D03C5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5A529-BEF0-40A2-BE6F-4A4E0D98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6F277-75CA-4CA9-8C6B-7F040166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4FFCE-0662-40A6-93E8-3285788C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9FC58-D7A4-4D20-B2C9-611CCD5A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3C170-77C8-49C3-9626-C993326A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FE62D-CFDE-4DE4-AA5A-FB74B166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D91EF-E334-4B01-B626-0F7B9399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46753-4CE6-4600-BF75-485986DD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1D496-FD2B-4EC8-BC81-62FBB513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59A3F-896F-4416-B246-4FFFF877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A9A5-0970-4FCF-A910-61DFA892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EA040-0946-4F9B-A33D-8A623412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3BC93-9CB6-4F2D-A7BE-557304DB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E1E71-8F2A-4F55-ACE9-8E01E9FF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5C829-F770-4EBB-8563-C9004549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92F19-F69D-4F74-B0C0-F6A5C014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E5CC9-4B20-4375-9143-69BC1361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E9F30-5D79-4403-AF42-B50C5A56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888A9-2AB5-4320-A8AF-FBAE8A71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8913C-DFAC-4F8E-9DED-2EB7DA8E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2FAA2-E7DF-4000-9ED2-EACC32AB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E845-31F8-4269-8F95-62F3D0F4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AA905-B421-41BB-B888-74985F10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BDBE7-7A81-4675-847F-702EC89F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66A3A-8BC6-410C-98A6-B971A1A8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2588C-FC89-4B47-A665-A9CAF366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384BE-0628-46F2-BC47-0DFA93D6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09240-44B0-4DF3-AB59-1B246C87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EE902-3700-4D2D-AAB3-B0A6A39F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rójkąt prostokątny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Łącznik prosty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Łącznik prosty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B4D0-8729-42DC-B8EC-8A2913D1A397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rójkąt prostokątny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Łącznik prosty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Łącznik prosty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Trójkąt równoramienny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A506-FB4B-4E1D-9B2F-7907AB7B1C75}" type="slidenum">
              <a:rPr b="0" lang="pl-PL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rójkąt prostokątny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Łącznik prosty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Łącznik prosty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0F8D-110A-47A3-A5AF-CD6E682A0743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rójkąt prostokątny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Trójkąt równoramienny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Łącznik prosty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Łącznik prosty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9C9D-9E97-47B2-B72F-E9204A29B3BC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rójkąt prostokątny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Łącznik prosty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Łącznik prosty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CCC6-2474-4667-9B4F-307DE207BEBD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0461-5BAA-42DC-807E-2AC89622A2FB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7EDB-66D8-494E-867D-06DC46F8C815}" type="slidenum">
              <a:rPr b="0" lang="pl-PL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D446-0800-4278-9B69-9FA2981BA89A}" type="slidenum">
              <a:rPr b="0" lang="pl-PL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Diagram 7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353" name="Hymn Rumunia.mp3" descr=""/>
          <p:cNvPicPr/>
          <p:nvPr/>
        </p:nvPicPr>
        <p:blipFill>
          <a:blip r:embed="rId2"/>
          <a:stretch/>
        </p:blipFill>
        <p:spPr>
          <a:xfrm>
            <a:off x="7500960" y="571680"/>
            <a:ext cx="276120" cy="304560"/>
          </a:xfrm>
          <a:prstGeom prst="rect">
            <a:avLst/>
          </a:prstGeom>
          <a:ln w="0">
            <a:noFill/>
          </a:ln>
        </p:spPr>
      </p:pic>
    </p:spTree>
  </p:cSld>
  <p:transition advTm="6000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Tytuł 1" descr=""/>
          <p:cNvPicPr/>
          <p:nvPr/>
        </p:nvPicPr>
        <p:blipFill>
          <a:blip r:embed="rId1"/>
          <a:stretch/>
        </p:blipFill>
        <p:spPr>
          <a:xfrm>
            <a:off x="487440" y="615960"/>
            <a:ext cx="8528040" cy="1700280"/>
          </a:xfrm>
          <a:prstGeom prst="rect">
            <a:avLst/>
          </a:prstGeom>
          <a:ln w="0">
            <a:noFill/>
          </a:ln>
        </p:spPr>
      </p:pic>
      <p:pic>
        <p:nvPicPr>
          <p:cNvPr id="368" name="Podtytuł 2" descr=""/>
          <p:cNvPicPr/>
          <p:nvPr/>
        </p:nvPicPr>
        <p:blipFill>
          <a:blip r:embed="rId2"/>
          <a:stretch/>
        </p:blipFill>
        <p:spPr>
          <a:xfrm>
            <a:off x="291960" y="2109960"/>
            <a:ext cx="8693280" cy="1901520"/>
          </a:xfrm>
          <a:prstGeom prst="rect">
            <a:avLst/>
          </a:prstGeom>
          <a:ln w="0">
            <a:noFill/>
          </a:ln>
        </p:spPr>
      </p:pic>
    </p:spTree>
  </p:cSld>
  <p:transition advTm="8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ytuł 1" descr=""/>
          <p:cNvPicPr/>
          <p:nvPr/>
        </p:nvPicPr>
        <p:blipFill>
          <a:blip r:embed="rId1"/>
          <a:stretch/>
        </p:blipFill>
        <p:spPr>
          <a:xfrm>
            <a:off x="390600" y="219240"/>
            <a:ext cx="8362800" cy="1530360"/>
          </a:xfrm>
          <a:prstGeom prst="rect">
            <a:avLst/>
          </a:prstGeom>
          <a:ln w="0">
            <a:noFill/>
          </a:ln>
        </p:spPr>
      </p:pic>
      <p:pic>
        <p:nvPicPr>
          <p:cNvPr id="355" name="Obraz 2" descr="125px-Flag_of_Romania.svg.png"/>
          <p:cNvPicPr/>
          <p:nvPr/>
        </p:nvPicPr>
        <p:blipFill>
          <a:blip r:embed="rId2"/>
          <a:stretch/>
        </p:blipFill>
        <p:spPr>
          <a:xfrm>
            <a:off x="2286000" y="2143080"/>
            <a:ext cx="4714920" cy="3108240"/>
          </a:xfrm>
          <a:prstGeom prst="rect">
            <a:avLst/>
          </a:prstGeom>
          <a:ln w="0">
            <a:noFill/>
          </a:ln>
        </p:spPr>
      </p:pic>
    </p:spTree>
  </p:cSld>
  <p:transition advTm="6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ytuł 1" descr=""/>
          <p:cNvPicPr/>
          <p:nvPr/>
        </p:nvPicPr>
        <p:blipFill>
          <a:blip r:embed="rId1"/>
          <a:stretch/>
        </p:blipFill>
        <p:spPr>
          <a:xfrm>
            <a:off x="401760" y="237960"/>
            <a:ext cx="8340480" cy="1505160"/>
          </a:xfrm>
          <a:prstGeom prst="rect">
            <a:avLst/>
          </a:prstGeom>
          <a:ln w="0">
            <a:noFill/>
          </a:ln>
        </p:spPr>
      </p:pic>
      <p:pic>
        <p:nvPicPr>
          <p:cNvPr id="357" name="Obraz 2" descr="85px-Romania_Coat_of_Arms.svg.png"/>
          <p:cNvPicPr/>
          <p:nvPr/>
        </p:nvPicPr>
        <p:blipFill>
          <a:blip r:embed="rId2"/>
          <a:stretch/>
        </p:blipFill>
        <p:spPr>
          <a:xfrm>
            <a:off x="3600360" y="1800360"/>
            <a:ext cx="2500560" cy="344160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ytuł 1" descr=""/>
          <p:cNvPicPr/>
          <p:nvPr/>
        </p:nvPicPr>
        <p:blipFill>
          <a:blip r:embed="rId1"/>
          <a:stretch/>
        </p:blipFill>
        <p:spPr>
          <a:xfrm>
            <a:off x="390600" y="219240"/>
            <a:ext cx="8362800" cy="1530360"/>
          </a:xfrm>
          <a:prstGeom prst="rect">
            <a:avLst/>
          </a:prstGeom>
          <a:ln w="0">
            <a:noFill/>
          </a:ln>
        </p:spPr>
      </p:pic>
      <p:pic>
        <p:nvPicPr>
          <p:cNvPr id="359" name="Symbol zastępczy zawartości 9" descr="250px-EU_location_ROM.png"/>
          <p:cNvPicPr/>
          <p:nvPr/>
        </p:nvPicPr>
        <p:blipFill>
          <a:blip r:embed="rId2"/>
          <a:stretch/>
        </p:blipFill>
        <p:spPr>
          <a:xfrm>
            <a:off x="957240" y="3176640"/>
            <a:ext cx="2828880" cy="3035160"/>
          </a:xfrm>
          <a:prstGeom prst="rect">
            <a:avLst/>
          </a:prstGeom>
          <a:ln w="0">
            <a:noFill/>
          </a:ln>
        </p:spPr>
      </p:pic>
      <p:pic>
        <p:nvPicPr>
          <p:cNvPr id="360" name="Obraz 10" descr="250px-Ru-mapa.PNG"/>
          <p:cNvPicPr/>
          <p:nvPr/>
        </p:nvPicPr>
        <p:blipFill>
          <a:blip r:embed="rId3"/>
          <a:stretch/>
        </p:blipFill>
        <p:spPr>
          <a:xfrm>
            <a:off x="5278320" y="3170160"/>
            <a:ext cx="2822760" cy="3029040"/>
          </a:xfrm>
          <a:prstGeom prst="rect">
            <a:avLst/>
          </a:prstGeom>
          <a:ln w="0">
            <a:noFill/>
          </a:ln>
        </p:spPr>
      </p:pic>
    </p:spTree>
  </p:cSld>
  <p:transition advTm="6000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Diagram 7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p:transition advTm="6000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Obraz 2" descr="250px-Moldovita_monastery1.jpg"/>
          <p:cNvPicPr/>
          <p:nvPr/>
        </p:nvPicPr>
        <p:blipFill>
          <a:blip r:embed="rId1"/>
          <a:stretch/>
        </p:blipFill>
        <p:spPr>
          <a:xfrm>
            <a:off x="1785960" y="357120"/>
            <a:ext cx="5643720" cy="6072120"/>
          </a:xfrm>
          <a:prstGeom prst="rect">
            <a:avLst/>
          </a:prstGeom>
          <a:ln w="0">
            <a:noFill/>
          </a:ln>
        </p:spPr>
      </p:pic>
    </p:spTree>
  </p:cSld>
  <p:transition advTm="6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Obraz 4" descr="250px-Cimitirul_Vesel_de_la_Sapanta3.jpg"/>
          <p:cNvPicPr/>
          <p:nvPr/>
        </p:nvPicPr>
        <p:blipFill>
          <a:blip r:embed="rId1"/>
          <a:stretch/>
        </p:blipFill>
        <p:spPr>
          <a:xfrm>
            <a:off x="1857240" y="857160"/>
            <a:ext cx="5572440" cy="5000760"/>
          </a:xfrm>
          <a:prstGeom prst="rect">
            <a:avLst/>
          </a:prstGeom>
          <a:ln w="0">
            <a:noFill/>
          </a:ln>
        </p:spPr>
      </p:pic>
    </p:spTree>
  </p:cSld>
  <p:transition advTm="6000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Obraz 2" descr="300px-Voronet_last_judgment.jpg"/>
          <p:cNvPicPr/>
          <p:nvPr/>
        </p:nvPicPr>
        <p:blipFill>
          <a:blip r:embed="rId1"/>
          <a:stretch/>
        </p:blipFill>
        <p:spPr>
          <a:xfrm>
            <a:off x="1857240" y="714240"/>
            <a:ext cx="5572440" cy="5500800"/>
          </a:xfrm>
          <a:prstGeom prst="rect">
            <a:avLst/>
          </a:prstGeom>
          <a:ln w="0">
            <a:noFill/>
          </a:ln>
        </p:spPr>
      </p:pic>
    </p:spTree>
  </p:cSld>
  <p:transition advTm="6000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ytuł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6" name="Wykres 4" descr=""/>
          <p:cNvPicPr/>
          <p:nvPr/>
        </p:nvPicPr>
        <p:blipFill>
          <a:blip r:embed="rId2"/>
          <a:stretch/>
        </p:blipFill>
        <p:spPr>
          <a:xfrm>
            <a:off x="1352520" y="1994040"/>
            <a:ext cx="6585120" cy="4028760"/>
          </a:xfrm>
          <a:prstGeom prst="rect">
            <a:avLst/>
          </a:prstGeom>
          <a:ln w="0">
            <a:noFill/>
          </a:ln>
        </p:spPr>
      </p:pic>
    </p:spTree>
  </p:cSld>
  <p:transition advTm="6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1:20:46Z</dcterms:created>
  <dc:creator>Omus</dc:creator>
  <dc:description/>
  <dc:language>en-US</dc:language>
  <cp:lastModifiedBy>Omus</cp:lastModifiedBy>
  <dcterms:modified xsi:type="dcterms:W3CDTF">2002-01-03T11:29:30Z</dcterms:modified>
  <cp:revision>20</cp:revision>
  <dc:subject/>
  <dc:title>Slajd 1</dc:title>
</cp:coreProperties>
</file>